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0FC8-81E7-4529-96F3-133B259C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CBB-99E4-4EEA-88E9-7C1077531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9DB5-D79E-4C5C-ACF1-592310C7C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A6EF-60AD-40AF-9D6F-FF11EB31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sharma.ca/obesity-did-weight-bias-play-a-role-in-access-to-h1n1-vaccin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FED-8AF1-489B-B01C-341B94959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aso/databank/entries/dm79s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n interesting article as well…about WH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efforts to eliminate smallp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B768-8F92-4A30-897F-E75D76A0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durham.ca/health.asp?nr=/departments/health/cdcp/routineSchedu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FDD5-165D-41D7-B879-0920474C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A01F-FF5A-4986-B49C-100C0400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allrmc.com/blog/reverse-mortgage-pros-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pworthy.com/16-years-ago-a-doctor-published-a-study-it-was-completely-made-up-and-it-made-us-all-sicker?g=2&amp;c=ufb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F9DA-FB19-4999-9A11-D539395F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D5E5-7C2B-4D42-81D1-6A572967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48A4-B662-469E-A59D-29730E79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gugenetics.pbworks.com/w/page/38371765/Gene%20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EF04-2222-41C4-B225-6571B058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6695-1E3F-40DA-B7D3-C0ADE4B77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40A-5CA3-422C-A9C8-9F55122D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03/viroids.html#.VBLk6Bz_A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fectious pieces of RNA without capsid; responsible for some plant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2115-1DE7-40E2-8BA8-1B4D9DE3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welmazur.org/blog/?tag=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normally-shaped infectious proteins; cause rare diseases in mammals; consumption of infected animals causes prions to enter blood &amp; travel to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2BB-1B72-41F2-8324-AEE6105C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65A9-BF09-4C2F-9CC7-4179D52D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vc.dfci.harvard.edu/hpv/HTML/classif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C266-624B-484A-A791-8442CC42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lv.ch/Virologytutorials/Classific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262-1604-40E2-9470-A8D648E0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3E9-0081-410E-A838-8CF3CB25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2 bacteriophage from: http://www.visualphotos.com/image/1x3745974/t2_bacteriophage_color_enhanced_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230B-DA5A-45AE-B2C8-04A12871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ism.gatech.edu/~gh19/b1510/viru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63BC-8A1E-459E-ABFB-F6C80D2C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 C links to liv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F0C-CC7E-4A0C-9E3F-9C9EDBB8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601-FE73-49D7-B956-487A01E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CFE-E59A-4B66-B3FA-ACDA3A69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CF4-0FE9-45D8-BE8C-B6E4A05B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ACD-C418-44E6-BB7D-6B1ABA71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5BF-9D74-415F-BD83-C98790F7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D9B-B4D4-4F65-98DA-6DE10138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024-67E2-4BFE-B9EE-880EA621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99D-D17F-4A8D-816F-8AD135C1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2FE-FCE4-40AE-BDB3-0405F6F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B10-7633-41E2-91CE-0230E7A1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5B1-4C7B-48A8-8E57-1B8EEC6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8467-0B9D-473C-BFEE-8AEBE4AA5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sYSyuuLk5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(2.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c vs.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vs. widespread (usually global) geographi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seen this fil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sYSyuuLk5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ned virus or parts of virus trigger bod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against future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harma-obesity-vaccination-150x150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d479spox01w001"/>
          <p:cNvPicPr/>
          <p:nvPr/>
        </p:nvPicPr>
        <p:blipFill>
          <a:blip r:embed="rId1"/>
          <a:stretch/>
        </p:blipFill>
        <p:spPr>
          <a:xfrm>
            <a:off x="1344600" y="1981080"/>
            <a:ext cx="645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zation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m_sch"/>
          <p:cNvPicPr/>
          <p:nvPr/>
        </p:nvPicPr>
        <p:blipFill>
          <a:blip r:embed="rId1"/>
          <a:stretch/>
        </p:blipFill>
        <p:spPr>
          <a:xfrm>
            <a:off x="1065240" y="1600200"/>
            <a:ext cx="708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Naomi Tyson Immunization Record.jpeg"/>
          <p:cNvPicPr/>
          <p:nvPr/>
        </p:nvPicPr>
        <p:blipFill>
          <a:blip r:embed="rId1"/>
          <a:srcRect l="0" t="-13664" r="0" b="-13664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- or Anti-Vacc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reasons for be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acci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3" descr="vaccines-and-autism-89a95934a2e5e6433d229e2f44ee4b8f.png.jpeg"/>
          <p:cNvPicPr/>
          <p:nvPr/>
        </p:nvPicPr>
        <p:blipFill>
          <a:blip r:embed="rId1"/>
          <a:srcRect l="-215256" t="0" r="-215256" b="0"/>
          <a:stretch/>
        </p:blipFill>
        <p:spPr>
          <a:xfrm>
            <a:off x="250920" y="333360"/>
            <a:ext cx="8640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viruses be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ow it works-gene therapy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isease-causing nonliving partic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Living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viroid_thumb[1]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171461"/>
          <p:cNvPicPr/>
          <p:nvPr/>
        </p:nvPicPr>
        <p:blipFill>
          <a:blip r:embed="rId1"/>
          <a:stretch/>
        </p:blipFill>
        <p:spPr>
          <a:xfrm>
            <a:off x="1571760" y="160020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not shared by Vir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(RNA viruses mu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? (they interact with host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image002.gif"/>
          <p:cNvPicPr/>
          <p:nvPr/>
        </p:nvPicPr>
        <p:blipFill>
          <a:blip r:embed="rId1"/>
          <a:srcRect l="-15724" t="0" r="-1572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lassificationtotal"/>
          <p:cNvPicPr/>
          <p:nvPr/>
        </p:nvPicPr>
        <p:blipFill>
          <a:blip r:embed="rId1"/>
          <a:srcRect l="13281" t="0" r="1328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04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aterial (DNA or 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are also surrounded by an enve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tibac_pix_virus_types"/>
          <p:cNvPicPr/>
          <p:nvPr/>
        </p:nvPicPr>
        <p:blipFill>
          <a:blip r:embed="rId1"/>
          <a:stretch/>
        </p:blipFill>
        <p:spPr>
          <a:xfrm>
            <a:off x="3809880" y="2284560"/>
            <a:ext cx="49532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t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very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an infect many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cteriopha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ect bacteria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2_bacteriophage_color_enhanced_transmission_electron_micrograph_tem_of_t2_bacteriophages_invad_BA2174"/>
          <p:cNvPicPr/>
          <p:nvPr/>
        </p:nvPicPr>
        <p:blipFill>
          <a:blip r:embed="rId1"/>
          <a:stretch/>
        </p:blipFill>
        <p:spPr>
          <a:xfrm>
            <a:off x="4267080" y="2327400"/>
            <a:ext cx="4419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tic cycle (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ogenic cyc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ysoge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ormanc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8lytic"/>
          <p:cNvPicPr/>
          <p:nvPr/>
        </p:nvPicPr>
        <p:blipFill>
          <a:blip r:embed="rId1"/>
          <a:stretch/>
        </p:blipFill>
        <p:spPr>
          <a:xfrm>
            <a:off x="2152800" y="3124080"/>
            <a:ext cx="491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640px-Viral_infections_and_involved_species"/>
          <p:cNvPicPr/>
          <p:nvPr/>
        </p:nvPicPr>
        <p:blipFill>
          <a:blip r:embed="rId1"/>
          <a:stretch/>
        </p:blipFill>
        <p:spPr>
          <a:xfrm>
            <a:off x="1303200" y="304920"/>
            <a:ext cx="653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5:45:36Z</dcterms:created>
  <dc:creator>rubina khan</dc:creator>
  <dc:description/>
  <dc:language>en-US</dc:language>
  <cp:lastModifiedBy>rubina khan</cp:lastModifiedBy>
  <dcterms:modified xsi:type="dcterms:W3CDTF">2018-04-03T19:31:04Z</dcterms:modified>
  <cp:revision>91</cp:revision>
  <dc:subject/>
  <dc:title>Viruses</dc:title>
</cp:coreProperties>
</file>